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370-1325-4E03-A37B-3273D324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DDD-819E-422E-9B88-0DFB463E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7AF-A891-4499-B50A-C41375C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771-02C7-4F87-A2DC-562361AD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9BB-E069-4CB0-B20D-B9796D29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0E1-508D-478E-A075-5D9AC7C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2A0-0742-4396-8A87-154B1C3D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173-02D6-4A45-B53E-52E55D7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053-B6D5-4B90-BCDD-515D2F47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98B-5C07-4543-B57B-095240D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900-A23C-420C-BF9F-DDA8BC5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AF4-F510-4635-BC07-B14B25F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A615-AA9A-470A-AEDC-95BA0454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38088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 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ip 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253120"/>
            <a:ext cx="4038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ah Fl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6640" y="1371600"/>
            <a:ext cx="1827360" cy="16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674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495288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529240"/>
            <a:ext cx="3809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aker Underscor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. 27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ake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56656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62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Wakefield made this on accident but now it is so famous and delici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383080"/>
            <a:ext cx="1460520" cy="14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997680" y="2362320"/>
            <a:ext cx="2146320" cy="123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6748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0 nobody has ever bitten into a Chocolate Chip Cook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Wakefeild ran out of her regular chocolate so she used a chocolate bar from Andrew Nes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made cook books on how to make the famous semi-sweet Chocolate Chip Cook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ccidentally made this delicious cooki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5334120"/>
            <a:ext cx="251460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ei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Wakefeild built a toll house to serve homemade me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raduated from Framingham State Normal School Department of Household 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as a dietitian and lectured on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ll House burned down on New Years Eve in 198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passed away in 197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sold the Toll House Inn to a family who tried to turn it into a night clu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1880" y="5486400"/>
            <a:ext cx="76212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915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20Z</dcterms:created>
  <dc:creator>install</dc:creator>
  <dc:description/>
  <dc:language>en-US</dc:language>
  <cp:lastModifiedBy>install</cp:lastModifiedBy>
  <dcterms:modified xsi:type="dcterms:W3CDTF">2012-03-09T15:26:15Z</dcterms:modified>
  <cp:revision>9</cp:revision>
  <dc:subject/>
  <dc:title>Slide 1</dc:title>
</cp:coreProperties>
</file>